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B6B-B743-43CF-8E17-380DF2C09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0B34-E5C1-4918-BF7D-9FF43D84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E7AD-38E3-4F0A-9056-143C7430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108-3E8F-4D3D-B12E-BC6BD2C3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B13A-AECE-4DF1-AD17-180CBAEA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007C-9AFB-4F60-A338-7461453A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6D79-879F-4C95-AE4F-D3B3FE91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376-5A4E-4563-BF6D-9BEE0400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03C-B85E-4565-852E-9BB8FCC0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932-1A5E-4246-9D8D-5ED765B3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A47-EDD0-4DAD-98E4-2F0D00E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5BD5-94B5-4AC9-BD20-9643111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C308-831F-4822-9E47-960451BB8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stiranje sintak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istematskom primenom definisanih mutacija na pojedine elemente sintakse, dobijamo skup test prim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8418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(nastava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569080" cy="38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250920" y="1903320"/>
            <a:ext cx="856908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pomene: neke mutacije daju sintaksno ispravne izraze i one su zanemar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 primer, m2 (promena el_4 sa el_2) daje korektnu sintaksu jer su i el_2 i el_4 isti (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ke mutacije daju isti rezultat pa su pokrivene samo jednim test prime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 primer, primenom m1 menjamo el_4 s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+”, dobijamo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laz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0e+”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što je isto kao u TP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binovanjem mutacija, ili izborom drugih vrednosti kada se primenjuju pojedinačne mutacije, može se dobiti još veliki broj drugih test prim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stiranje sintak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di se o tehnici crne kut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trebno je analizirati funkcionalnu specifikaciju softvera da bi se modelovalo njegovo ponašanje opisom sintakse ulaznih poda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hnika je onoliko efikasna koliko opis sintakse prema kojem se testira odgovara stvarnom ponašanju kompon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azmotrimo modul koji proverava da li vrednost ulazne promenljive 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loat_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odgovara sintaksi broja u pokretnom zarezu. Izlaz (promenljiva check_res) uzima vrednosti valid ili invalid u zavisnosti o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nosti sintak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826920" y="2276640"/>
            <a:ext cx="4969080" cy="122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is sintakse broja u pokretnom zarezu u Backus Naur-ovoj formi (BN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= int "e" 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= ["+"|"-"] n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 = {dig}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 = "0"|"1"|"2"|"3"|"4"|"5"|"6"|"7"|"8"|"9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erminali su prikazani pod navodnicima – to su elementarni delovi sintakse ulaza, tj. znaci od kojih se sastoji ul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 je sint. operator koji razdvaja alter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ogr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đuje neobavezni element (može se izostavi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}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okviruje element sintakse koji se u ulazu može pojaviti jednom ili više pu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st primeri za validnu sintak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964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rvo ćemo izvesti opcije iz sint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g opis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iza opcije stavljamo oznaku [opt_i], da bismo je kasnije mogli identifikov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ma op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 tri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pcij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opt_1],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“+” 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opt_2] 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“-” 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opt_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ma dv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p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jednocifren bro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opt_4] i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i</a:t>
            </a: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šecif broj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pt_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99"/>
                </a:solidFill>
                <a:latin typeface="Arial"/>
              </a:rPr>
              <a:t>di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ma 10 opcija: po jednu za svaku cif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opt_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6-opt_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reba konstruisati po jedan test primer za svaku od 15 dobijenih op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Test primeri za validnu sintak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74872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Testovi pokrivaju i druge opcije osim onih za koje su pravlje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vaj skup TP nije minimalan (dovoljni bi bili npr. 2, 3 i 5 da pokriju sve opcij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eđutim, ako se ovako napravi za svaku opciju posebno lakše je ispraviti potencijalnu grešku ako se testiranjem uoč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est primeri za neispravnu sintaks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vo definišemo listu generiških mutacija, na prim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1. uvodi nedozvoljenu vrednost za sint.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2. menja element drugim definisanim elemen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3. izostavlja potreb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4. dodaje suvišan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611280" y="2276640"/>
            <a:ext cx="8281800" cy="180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Elementi za sintaksu float-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 BNF reprezentaciji obeležićemo pojedine sintaksne elemente sa el_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 = int "e" int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_1 = el_2 el_3 el_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= ["+"|"-"] nat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_5 = el_6 el_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 = {dig}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_8 = el_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0"|"1"|"2"|"3"|"4"|"5"|"6"|"7"|"8"|"9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_10 = el_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apomena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"+"|"-"]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tretiramo kao jedan element pošto mutacije nad pojedinačnim opcionim elementima ne prave test primere sa neispravnom sintaksom koristeći definisani skup mut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9:53:36Z</dcterms:created>
  <dc:creator>Dragan Bojic</dc:creator>
  <dc:description/>
  <dc:language>en-US</dc:language>
  <cp:lastModifiedBy>DB</cp:lastModifiedBy>
  <dcterms:modified xsi:type="dcterms:W3CDTF">2024-10-05T14:05:17Z</dcterms:modified>
  <cp:revision>67</cp:revision>
  <dc:subject/>
  <dc:title>Testiranje zasnovano na konačnim automatima</dc:title>
</cp:coreProperties>
</file>