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4F9C-7DC0-491B-8953-EDBB0C563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C30B-AD82-4CF1-93FD-0BEA886CEFD2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54080" y="303120"/>
            <a:ext cx="4746600" cy="3560760"/>
          </a:xfrm>
          <a:prstGeom prst="rect">
            <a:avLst/>
          </a:prstGeom>
          <a:ln w="0">
            <a:noFill/>
          </a:ln>
        </p:spPr>
      </p:sp>
      <p:sp>
        <p:nvSpPr>
          <p:cNvPr id="156" name="Text Box 3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5371-E7EB-4291-8A80-26BFA0C5314F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054080" y="303120"/>
            <a:ext cx="4746600" cy="3560760"/>
          </a:xfrm>
          <a:prstGeom prst="rect">
            <a:avLst/>
          </a:prstGeom>
          <a:ln w="0">
            <a:noFill/>
          </a:ln>
        </p:spPr>
      </p:sp>
      <p:sp>
        <p:nvSpPr>
          <p:cNvPr id="159" name="Text Box 3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4C4D-04D4-4374-A2D8-439769CEA5E4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054080" y="303120"/>
            <a:ext cx="4746600" cy="3560760"/>
          </a:xfrm>
          <a:prstGeom prst="rect">
            <a:avLst/>
          </a:prstGeom>
          <a:ln w="0">
            <a:noFill/>
          </a:ln>
        </p:spPr>
      </p:sp>
      <p:sp>
        <p:nvSpPr>
          <p:cNvPr id="162" name="Text Box 3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B916-EE4E-44FF-8792-160A43ADF2AF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54080" y="303120"/>
            <a:ext cx="4746600" cy="3560760"/>
          </a:xfrm>
          <a:prstGeom prst="rect">
            <a:avLst/>
          </a:prstGeom>
          <a:ln w="0">
            <a:noFill/>
          </a:ln>
        </p:spPr>
      </p:sp>
      <p:sp>
        <p:nvSpPr>
          <p:cNvPr id="135" name="Text Box 3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6CB0-3813-419E-BD59-401389285C18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54080" y="303120"/>
            <a:ext cx="4746600" cy="3560760"/>
          </a:xfrm>
          <a:prstGeom prst="rect">
            <a:avLst/>
          </a:prstGeom>
          <a:ln w="0">
            <a:noFill/>
          </a:ln>
        </p:spPr>
      </p:sp>
      <p:sp>
        <p:nvSpPr>
          <p:cNvPr id="138" name="Text Box 3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6B53-966E-4751-AECD-A1BE0CB4BDDB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54080" y="303120"/>
            <a:ext cx="4746600" cy="3560760"/>
          </a:xfrm>
          <a:prstGeom prst="rect">
            <a:avLst/>
          </a:prstGeom>
          <a:ln w="0">
            <a:noFill/>
          </a:ln>
        </p:spPr>
      </p:sp>
      <p:sp>
        <p:nvSpPr>
          <p:cNvPr id="141" name="Text Box 3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39EC-835A-4324-B0B5-9782478E42E6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54080" y="303120"/>
            <a:ext cx="4746600" cy="3560760"/>
          </a:xfrm>
          <a:prstGeom prst="rect">
            <a:avLst/>
          </a:prstGeom>
          <a:ln w="0">
            <a:noFill/>
          </a:ln>
        </p:spPr>
      </p:sp>
      <p:sp>
        <p:nvSpPr>
          <p:cNvPr id="144" name="Text Box 3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B023-7A08-42F8-86FA-BB6EE39B597D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054080" y="303120"/>
            <a:ext cx="4746600" cy="3560760"/>
          </a:xfrm>
          <a:prstGeom prst="rect">
            <a:avLst/>
          </a:prstGeom>
          <a:ln w="0">
            <a:noFill/>
          </a:ln>
        </p:spPr>
      </p:sp>
      <p:sp>
        <p:nvSpPr>
          <p:cNvPr id="147" name="Text Box 3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B47B-8AA4-4C11-83C0-66E817C7645B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054080" y="303120"/>
            <a:ext cx="4746600" cy="3560760"/>
          </a:xfrm>
          <a:prstGeom prst="rect">
            <a:avLst/>
          </a:prstGeom>
          <a:ln w="0">
            <a:noFill/>
          </a:ln>
        </p:spPr>
      </p:sp>
      <p:sp>
        <p:nvSpPr>
          <p:cNvPr id="150" name="Text Box 3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A86F-B9BD-4738-9B99-C7071F05DD69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054080" y="303120"/>
            <a:ext cx="4746600" cy="3560760"/>
          </a:xfrm>
          <a:prstGeom prst="rect">
            <a:avLst/>
          </a:prstGeom>
          <a:ln w="0">
            <a:noFill/>
          </a:ln>
        </p:spPr>
      </p:sp>
      <p:sp>
        <p:nvSpPr>
          <p:cNvPr id="153" name="Text Box 3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8629-09CF-4709-830D-A2758C2D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C439-2C31-4265-967C-A1F58FC4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93EF-F820-4EBF-AFEE-2CD39E37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9480-210C-4B92-88DE-AEBAFA5B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98CC-0DB2-47D6-BCA4-AE8A00DA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89CD-372B-48C2-A8AF-727C8D0C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ABA8-0282-4BD3-9A2D-5D340120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D0DD-65D1-4777-B81D-FC37FF83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4CC1-6DBD-4D19-A898-1C7E8A2B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7784-C0B8-4742-997A-EADA92F6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19AA-AE72-4CBD-88AA-1F1ECA66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6BAA-995C-48BA-8E33-BDCB5FE2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CA48-CEC1-4E89-89E1-0670A2FF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3D65-5070-42D3-A819-FBB24AA5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6577-29DC-4108-B200-DE190D4B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0962-5DED-4014-B9E6-187E2B23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7DBD-0B43-48DB-9982-343BC90F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2C7E-712F-42CD-97FE-C485B564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505B-9F33-4CB5-A139-DA4E04F3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79A-4E49-4092-8CB3-7CE8C317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5AE5-4DEC-4833-BFF2-150B265F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B48D-3CF5-48EA-A036-BC785CE5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952F-25FC-49AA-A3E4-58ECE0C8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DD77-E735-4F47-86ED-B0E4FA6A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cc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5CBA-6E2C-4FC4-B573-ED89EEFCD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cc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BF89-1C12-436B-99F7-0E710CCAFA0C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66"/>
                </a:solidFill>
                <a:latin typeface="Tahoma"/>
              </a:rPr>
              <a:t>Testiranje zasnovano na toku podataka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ff"/>
                </a:solidFill>
                <a:latin typeface="Tahoma"/>
              </a:rPr>
              <a:t>Testiranje zasnovano na toku podataka</a:t>
            </a:r>
            <a:endParaRPr b="0" lang="en-US" sz="32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Razli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čite strategije zahtevaju pokrivanje različitih DU lanaca. Testovi se generišu da postignu 100% pokrivenost za svaki od kriterijuma ako je moguće.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Realna pokrivenost izražava se formulom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509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Coverage = (N/T) * 100%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509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Gde je T broj lanaca po nekom kriterijumu (utvrđuje se statičkom analizom programa) a N je broj tih lanaca koje su testovi zaista pokrili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640" y="333000"/>
            <a:ext cx="8893080" cy="63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ff"/>
                </a:solidFill>
                <a:latin typeface="Tahoma"/>
              </a:rPr>
              <a:t>Strategije testiranja zasnovanog na toku podataka</a:t>
            </a:r>
            <a:endParaRPr b="0" lang="en-US" sz="28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Prema radu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Rapps-Weyuker 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imamo sledeće strategije pokrivanja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Sve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defini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cij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Sve upotreb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Sve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p-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upotreb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Sve c-upotreb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Sve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c-u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potrebe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neke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p-u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potreb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Sve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p-u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potrebe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neke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c-u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potreb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Svi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du-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lanci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ff"/>
                </a:solidFill>
                <a:latin typeface="Tahoma"/>
              </a:rPr>
              <a:t>Sve definicije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9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100% </a:t>
            </a: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pokrivenost se postiže ako se izvrši bar po jed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u lanac</a:t>
            </a: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 od svake definicije svake promenljive do neke od upotreba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bilo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p-use </a:t>
            </a: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bilo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c-use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Prime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79280" y="3692520"/>
            <a:ext cx="89298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ff"/>
                </a:solidFill>
                <a:latin typeface="Tahoma"/>
              </a:rPr>
              <a:t>Sve c-upotrebe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9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100% </a:t>
            </a: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pokrivenost se postiže ako se izvrši bar po jed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n du lanac</a:t>
            </a: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 od svake definicije do svih c upotreba te definicij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Prime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108000" y="3583080"/>
            <a:ext cx="896472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69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ff"/>
                </a:solidFill>
                <a:latin typeface="Tahoma"/>
              </a:rPr>
              <a:t>Sve c-upotrebe, neke p-upotrebe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47400"/>
            <a:ext cx="7772400" cy="36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100% 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pokrivenost se postiže ako se izvrši bar po jedna du lanac od svake definicije do svih c upotreba te definicije; ako definicija nema c-upotreba, mora se pokriti bar jedan du lanac sa p-upotrebom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Primer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Pored du lanaca iz svih c upotreba, treba pokriti i jedan du lanac za p-upotrebu promenljive Is_Complex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108000" y="4941720"/>
            <a:ext cx="8785080" cy="13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ff"/>
                </a:solidFill>
                <a:latin typeface="Tahoma"/>
              </a:rPr>
              <a:t>Sve p-upotrebe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9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100% </a:t>
            </a: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pokrivenost se postiže ako se izvrši bar po jed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u lanac</a:t>
            </a: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 od svake definicije do svih p upotreba te definicij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Prime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34920" y="3798720"/>
            <a:ext cx="900108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ff"/>
                </a:solidFill>
                <a:latin typeface="Tahoma"/>
              </a:rPr>
              <a:t>Sve p-upotrebe, neke c-upotrebe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3992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100% 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pokrivenost se postiže ako se izvrši bar po jed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u lanac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 od svake definicije do svih p upotreba te definicije; ako definicija nema p-upotreba, mora se pokriti bar jedan du lanac sa c-upotrebom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Primer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Pored du lanaca iz svih p upotreba, treba pokriti i po jedan du lanac za c-upotrebe promenljivih A,B,C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4920" y="5157720"/>
            <a:ext cx="90360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ff"/>
                </a:solidFill>
                <a:latin typeface="Tahoma"/>
              </a:rPr>
              <a:t>Sve upotrebe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888480"/>
            <a:ext cx="7772400" cy="19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100% </a:t>
            </a: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pokrivenost se postiže ako se izvrši bar po jed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u lanac</a:t>
            </a: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 od svake definicije do svih upotreba (i p-use i c-use) te definicij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Prime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431640" y="2835360"/>
            <a:ext cx="810108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ff"/>
                </a:solidFill>
                <a:latin typeface="Tahoma"/>
              </a:rPr>
              <a:t>Sv</a:t>
            </a:r>
            <a:r>
              <a:rPr b="0" lang="en-US" sz="3600" spc="-1" strike="noStrike">
                <a:solidFill>
                  <a:srgbClr val="3333ff"/>
                </a:solidFill>
                <a:latin typeface="Tahoma"/>
              </a:rPr>
              <a:t>e</a:t>
            </a:r>
            <a:r>
              <a:rPr b="0" lang="sr-Latn-CS" sz="3600" spc="-1" strike="noStrike">
                <a:solidFill>
                  <a:srgbClr val="3333ff"/>
                </a:solidFill>
                <a:latin typeface="Tahoma"/>
              </a:rPr>
              <a:t> DU </a:t>
            </a:r>
            <a:r>
              <a:rPr b="0" lang="en-US" sz="3600" spc="-1" strike="noStrike">
                <a:solidFill>
                  <a:srgbClr val="3333ff"/>
                </a:solidFill>
                <a:latin typeface="Tahoma"/>
              </a:rPr>
              <a:t>putanje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888840"/>
            <a:ext cx="7772400" cy="570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100% 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pokrivenost se postiže ako se izvrši </a:t>
            </a:r>
            <a:r>
              <a:rPr b="0" lang="sr-Latn-CS" sz="2800" spc="-1" strike="noStrike" u="sng">
                <a:solidFill>
                  <a:srgbClr val="000066"/>
                </a:solidFill>
                <a:uFillTx/>
                <a:latin typeface="Tahoma"/>
              </a:rPr>
              <a:t>svaka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‘jednostavna’ 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putanja od svake definicije do svih upotreba (i p-use i c-use) te definicij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jednostavna’ putanja u grafu toka kontrole je putanja kod koje se svaki njen deo pose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ćuje minimalan broj puta (npr. otvorene putanje, jedna iteracija kroz petlju)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Za posmatrani primer, postoje dve jednostavne putanje van onih koje pokrivaju testovi za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’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sve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upotrebe’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. To su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0-1-4-5-9-10   i   1-4-5-9-10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Medjutim, nije ih moguće pokriti testovima.    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ff"/>
                </a:solidFill>
                <a:latin typeface="Tahoma"/>
              </a:rPr>
              <a:t>Testiranje zasnovano na toku podataka</a:t>
            </a:r>
            <a:endParaRPr b="0" lang="en-US" sz="32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66"/>
                </a:solidFill>
                <a:latin typeface="Tahoma"/>
              </a:rPr>
              <a:t>Strategije zasnovane na toku podataka</a:t>
            </a: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Korisne za izbor test putanja programa koji poseduju ugneždene if-ove i petlj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ff"/>
                </a:solidFill>
                <a:latin typeface="Tahoma"/>
              </a:rPr>
              <a:t>Tehnike testiranja zasnovane na toku podataka</a:t>
            </a:r>
            <a:endParaRPr b="0" lang="en-US" sz="32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66"/>
                </a:solidFill>
                <a:latin typeface="Tahoma"/>
              </a:rPr>
              <a:t>Programske putanje se selektuju za testiranje </a:t>
            </a: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Vodeći računa o lokacijama dodele promenljivama i lokacijama upotrebe istih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ff"/>
                </a:solidFill>
                <a:latin typeface="Tahoma"/>
              </a:rPr>
              <a:t>Osnovni pojmovi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66"/>
                </a:solidFill>
                <a:latin typeface="Tahoma"/>
              </a:rPr>
              <a:t>Za iskaz</a:t>
            </a: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 S,</a:t>
            </a:r>
            <a:r>
              <a:rPr b="0" lang="sr-Latn-CS" sz="3200" spc="-1" strike="noStrike">
                <a:solidFill>
                  <a:srgbClr val="000066"/>
                </a:solidFill>
                <a:latin typeface="Tahoma"/>
              </a:rPr>
              <a:t> definišemo skupove</a:t>
            </a: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Tahoma"/>
              </a:rPr>
              <a:t>DEF(S)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= {X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| iskaz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S sadr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ži dodelu vrednosti promenljivoj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X}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Tahoma"/>
              </a:rPr>
              <a:t>USE(S)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= {X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|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iskaz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S 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sadrži upotrebu promenljive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X}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Primer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: 1: a=b; DEF(1)={a}, USE(1)={b}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Primer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: 2: a=a+b; DEF(2)={a}, USE(2)={a,b}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ahoma"/>
              </a:rPr>
              <a:t>Osnovni pojmovi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potreba se naziva 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predikatskom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(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p-use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) ako se pojavljuje u predikatskom izrazu naredbi kontrole toka (if, while, switch itd.)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 suprotnom, upotreba se naziva ra</a:t>
            </a:r>
            <a:r>
              <a:rPr b="0" lang="sr-Latn-CS" sz="3200" spc="-1" strike="noStrike">
                <a:solidFill>
                  <a:srgbClr val="000066"/>
                </a:solidFill>
                <a:latin typeface="Tahoma"/>
              </a:rPr>
              <a:t>čunskom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computational use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or 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c-use</a:t>
            </a:r>
            <a:r>
              <a:rPr b="0" lang="sr-Latn-CS" sz="3200" spc="-1" strike="noStrike">
                <a:solidFill>
                  <a:srgbClr val="000066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ahoma"/>
              </a:rPr>
              <a:t>Osnovni pojmovi – </a:t>
            </a:r>
            <a:r>
              <a:rPr b="0" lang="sr-Latn-CS" sz="3600" spc="-1" strike="noStrike">
                <a:solidFill>
                  <a:srgbClr val="3333ff"/>
                </a:solidFill>
                <a:latin typeface="Tahoma"/>
              </a:rPr>
              <a:t>život promenljive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66"/>
                </a:solidFill>
                <a:latin typeface="Tahoma"/>
              </a:rPr>
              <a:t>Za promenljivu</a:t>
            </a: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 X </a:t>
            </a:r>
            <a:r>
              <a:rPr b="0" lang="sr-Latn-CS" sz="3200" spc="-1" strike="noStrike">
                <a:solidFill>
                  <a:srgbClr val="000066"/>
                </a:solidFill>
                <a:latin typeface="Tahoma"/>
              </a:rPr>
              <a:t>kaže se da je </a:t>
            </a:r>
            <a:r>
              <a:rPr b="1" lang="sr-Latn-CS" sz="3200" spc="-1" strike="noStrike">
                <a:solidFill>
                  <a:srgbClr val="3333ff"/>
                </a:solidFill>
                <a:latin typeface="Tahoma"/>
              </a:rPr>
              <a:t>živa</a:t>
            </a:r>
            <a:r>
              <a:rPr b="0" lang="sr-Latn-CS" sz="3200" spc="-1" strike="noStrike">
                <a:solidFill>
                  <a:srgbClr val="000066"/>
                </a:solidFill>
                <a:latin typeface="Tahoma"/>
              </a:rPr>
              <a:t> u iskazu</a:t>
            </a: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 S1, </a:t>
            </a:r>
            <a:r>
              <a:rPr b="0" lang="sr-Latn-CS" sz="3200" spc="-1" strike="noStrike">
                <a:solidFill>
                  <a:srgbClr val="000066"/>
                </a:solidFill>
                <a:latin typeface="Tahoma"/>
              </a:rPr>
              <a:t>akko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X 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je definisana u nekom iskazu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S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 i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pos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t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oji putanja od 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S 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d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o S1 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koja ne sadrži novu dodelu promenljivoj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X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ff"/>
                </a:solidFill>
                <a:latin typeface="Tahoma"/>
              </a:rPr>
              <a:t>Lanac Dodele-upotrebe (DU lanac)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Ozna</a:t>
            </a:r>
            <a:r>
              <a:rPr b="0" lang="sr-Latn-CS" sz="3200" spc="-1" strike="noStrike">
                <a:solidFill>
                  <a:srgbClr val="000066"/>
                </a:solidFill>
                <a:latin typeface="Tahoma"/>
              </a:rPr>
              <a:t>čava se sa </a:t>
            </a: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[X,S,S1],</a:t>
            </a:r>
            <a:r>
              <a:rPr b="0" lang="sr-Latn-CS" sz="3200" spc="-1" strike="noStrike">
                <a:solidFill>
                  <a:srgbClr val="000066"/>
                </a:solidFill>
                <a:latin typeface="Tahoma"/>
              </a:rPr>
              <a:t> gde su</a:t>
            </a: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S 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i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S1 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iskazi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a X promenljiva tako da važi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X 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DEF(S)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 i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X 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USE(S1)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 i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X i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ma dodelu u iskazu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S 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koja je živa u iskazu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S1. 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ff"/>
                </a:solidFill>
                <a:latin typeface="Tahoma"/>
              </a:rPr>
              <a:t>Primer DU lanaca</a:t>
            </a:r>
            <a:endParaRPr b="0" lang="en-US" sz="32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02" name="Text Box 1027"/>
          <p:cNvSpPr/>
          <p:nvPr/>
        </p:nvSpPr>
        <p:spPr>
          <a:xfrm>
            <a:off x="685800" y="817560"/>
            <a:ext cx="8278920" cy="60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517680"/>
                <a:tab algn="l" pos="1333440"/>
                <a:tab algn="l" pos="2151000"/>
                <a:tab algn="l" pos="2967120"/>
                <a:tab algn="l" pos="3782880"/>
                <a:tab algn="l" pos="4599000"/>
                <a:tab algn="l" pos="5416560"/>
                <a:tab algn="l" pos="6232680"/>
                <a:tab algn="l" pos="6840360"/>
                <a:tab algn="l" pos="691200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// Is_Complex is true if the roots are not re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517680"/>
                <a:tab algn="l" pos="1333440"/>
                <a:tab algn="l" pos="2151000"/>
                <a:tab algn="l" pos="2967120"/>
                <a:tab algn="l" pos="3782880"/>
                <a:tab algn="l" pos="4599000"/>
                <a:tab algn="l" pos="5416560"/>
                <a:tab algn="l" pos="6232680"/>
                <a:tab algn="l" pos="6840360"/>
                <a:tab algn="l" pos="691200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// If the two roots are real, they are produced in R1, R2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517680"/>
                <a:tab algn="l" pos="1333440"/>
                <a:tab algn="l" pos="2151000"/>
                <a:tab algn="l" pos="2967120"/>
                <a:tab algn="l" pos="3782880"/>
                <a:tab algn="l" pos="4599000"/>
                <a:tab algn="l" pos="5416560"/>
                <a:tab algn="l" pos="6232680"/>
                <a:tab algn="l" pos="6840360"/>
                <a:tab algn="l" pos="691200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oid Solve_Quadratic(float A, float B, float C) {       //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517680"/>
                <a:tab algn="l" pos="1333440"/>
                <a:tab algn="l" pos="2151000"/>
                <a:tab algn="l" pos="2967120"/>
                <a:tab algn="l" pos="3782880"/>
                <a:tab algn="l" pos="4599000"/>
                <a:tab algn="l" pos="5416560"/>
                <a:tab algn="l" pos="6232680"/>
                <a:tab algn="l" pos="6840360"/>
                <a:tab algn="l" pos="691200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loat Discrim = B*B - 4.0*A*C;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//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517680"/>
                <a:tab algn="l" pos="1333440"/>
                <a:tab algn="l" pos="2151000"/>
                <a:tab algn="l" pos="2967120"/>
                <a:tab algn="l" pos="3782880"/>
                <a:tab algn="l" pos="4599000"/>
                <a:tab algn="l" pos="5416560"/>
                <a:tab algn="l" pos="6232680"/>
                <a:tab algn="l" pos="6840360"/>
                <a:tab algn="l" pos="691200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ool Is_Complex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//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517680"/>
                <a:tab algn="l" pos="1333440"/>
                <a:tab algn="l" pos="2151000"/>
                <a:tab algn="l" pos="2967120"/>
                <a:tab algn="l" pos="3782880"/>
                <a:tab algn="l" pos="4599000"/>
                <a:tab algn="l" pos="5416560"/>
                <a:tab algn="l" pos="6232680"/>
                <a:tab algn="l" pos="6840360"/>
                <a:tab algn="l" pos="691200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loat R1, R2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//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517680"/>
                <a:tab algn="l" pos="1333440"/>
                <a:tab algn="l" pos="2151000"/>
                <a:tab algn="l" pos="2967120"/>
                <a:tab algn="l" pos="3782880"/>
                <a:tab algn="l" pos="4599000"/>
                <a:tab algn="l" pos="5416560"/>
                <a:tab algn="l" pos="6232680"/>
                <a:tab algn="l" pos="6840360"/>
                <a:tab algn="l" pos="691200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 (Discrim &lt; 0.0) {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// 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517680"/>
                <a:tab algn="l" pos="1333440"/>
                <a:tab algn="l" pos="2151000"/>
                <a:tab algn="l" pos="2967120"/>
                <a:tab algn="l" pos="3782880"/>
                <a:tab algn="l" pos="4599000"/>
                <a:tab algn="l" pos="5416560"/>
                <a:tab algn="l" pos="6232680"/>
                <a:tab algn="l" pos="6840360"/>
                <a:tab algn="l" pos="691200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_Complex = true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//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517680"/>
                <a:tab algn="l" pos="1333440"/>
                <a:tab algn="l" pos="2151000"/>
                <a:tab algn="l" pos="2967120"/>
                <a:tab algn="l" pos="3782880"/>
                <a:tab algn="l" pos="4599000"/>
                <a:tab algn="l" pos="5416560"/>
                <a:tab algn="l" pos="6232680"/>
                <a:tab algn="l" pos="6840360"/>
                <a:tab algn="l" pos="691200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 else {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// 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517680"/>
                <a:tab algn="l" pos="1333440"/>
                <a:tab algn="l" pos="2151000"/>
                <a:tab algn="l" pos="2967120"/>
                <a:tab algn="l" pos="3782880"/>
                <a:tab algn="l" pos="4599000"/>
                <a:tab algn="l" pos="5416560"/>
                <a:tab algn="l" pos="6232680"/>
                <a:tab algn="l" pos="6840360"/>
                <a:tab algn="l" pos="691200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_Complex = false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// 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517680"/>
                <a:tab algn="l" pos="1333440"/>
                <a:tab algn="l" pos="2151000"/>
                <a:tab algn="l" pos="2967120"/>
                <a:tab algn="l" pos="3782880"/>
                <a:tab algn="l" pos="4599000"/>
                <a:tab algn="l" pos="5416560"/>
                <a:tab algn="l" pos="6232680"/>
                <a:tab algn="l" pos="6840360"/>
                <a:tab algn="l" pos="691200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// 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517680"/>
                <a:tab algn="l" pos="1333440"/>
                <a:tab algn="l" pos="2151000"/>
                <a:tab algn="l" pos="2967120"/>
                <a:tab algn="l" pos="3782880"/>
                <a:tab algn="l" pos="4599000"/>
                <a:tab algn="l" pos="5416560"/>
                <a:tab algn="l" pos="6232680"/>
                <a:tab algn="l" pos="6840360"/>
                <a:tab algn="l" pos="691200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 (!Is_Complex) {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// 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517680"/>
                <a:tab algn="l" pos="1333440"/>
                <a:tab algn="l" pos="2151000"/>
                <a:tab algn="l" pos="2967120"/>
                <a:tab algn="l" pos="3782880"/>
                <a:tab algn="l" pos="4599000"/>
                <a:tab algn="l" pos="5416560"/>
                <a:tab algn="l" pos="6232680"/>
                <a:tab algn="l" pos="6840360"/>
                <a:tab algn="l" pos="691200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1 = (-B + sqrt(Discrim))/ (2.0*A);   // 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517680"/>
                <a:tab algn="l" pos="1333440"/>
                <a:tab algn="l" pos="2151000"/>
                <a:tab algn="l" pos="2967120"/>
                <a:tab algn="l" pos="3782880"/>
                <a:tab algn="l" pos="4599000"/>
                <a:tab algn="l" pos="5416560"/>
                <a:tab algn="l" pos="6232680"/>
                <a:tab algn="l" pos="6840360"/>
                <a:tab algn="l" pos="691200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2 = (-B - sqrt(Discrim))/ (2.0*A);   //  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517680"/>
                <a:tab algn="l" pos="1333440"/>
                <a:tab algn="l" pos="2151000"/>
                <a:tab algn="l" pos="2967120"/>
                <a:tab algn="l" pos="3782880"/>
                <a:tab algn="l" pos="4599000"/>
                <a:tab algn="l" pos="5416560"/>
                <a:tab algn="l" pos="6232680"/>
                <a:tab algn="l" pos="6840360"/>
                <a:tab algn="l" pos="691200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// 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517680"/>
                <a:tab algn="l" pos="1333440"/>
                <a:tab algn="l" pos="2151000"/>
                <a:tab algn="l" pos="2967120"/>
                <a:tab algn="l" pos="3782880"/>
                <a:tab algn="l" pos="4599000"/>
                <a:tab algn="l" pos="5416560"/>
                <a:tab algn="l" pos="6232680"/>
                <a:tab algn="l" pos="6840360"/>
                <a:tab algn="l" pos="691200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// 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ff"/>
                </a:solidFill>
                <a:latin typeface="Tahoma"/>
              </a:rPr>
              <a:t>Primer</a:t>
            </a:r>
            <a:r>
              <a:rPr b="0" lang="en-US" sz="3600" spc="-1" strike="noStrike">
                <a:solidFill>
                  <a:srgbClr val="3333ff"/>
                </a:solidFill>
                <a:latin typeface="Tahoma"/>
              </a:rPr>
              <a:t>: definicije i upotrebe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403280" y="1084320"/>
            <a:ext cx="6121440" cy="55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69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ff"/>
                </a:solidFill>
                <a:latin typeface="Tahoma"/>
              </a:rPr>
              <a:t>Primer</a:t>
            </a:r>
            <a:r>
              <a:rPr b="0" lang="en-US" sz="3600" spc="-1" strike="noStrike">
                <a:solidFill>
                  <a:srgbClr val="3333ff"/>
                </a:solidFill>
                <a:latin typeface="Tahoma"/>
              </a:rPr>
              <a:t>:</a:t>
            </a:r>
            <a:r>
              <a:rPr b="0" lang="sr-Latn-CS" sz="3600" spc="-1" strike="noStrike">
                <a:solidFill>
                  <a:srgbClr val="3333ff"/>
                </a:solidFill>
                <a:latin typeface="Tahoma"/>
              </a:rPr>
              <a:t> DU lanc</a:t>
            </a:r>
            <a:r>
              <a:rPr b="0" lang="en-US" sz="3600" spc="-1" strike="noStrike">
                <a:solidFill>
                  <a:srgbClr val="3333ff"/>
                </a:solidFill>
                <a:latin typeface="Tahoma"/>
              </a:rPr>
              <a:t>i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332000" y="1362240"/>
            <a:ext cx="6335640" cy="512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04:00:26Z</dcterms:created>
  <dc:creator>DB</dc:creator>
  <dc:description/>
  <dc:language>en-US</dc:language>
  <cp:lastModifiedBy>DB</cp:lastModifiedBy>
  <dcterms:modified xsi:type="dcterms:W3CDTF">2024-10-05T14:18:32Z</dcterms:modified>
  <cp:revision>294</cp:revision>
  <dc:subject/>
  <dc:title>Testiranje softvera</dc:title>
</cp:coreProperties>
</file>